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C94-FE22-409F-9DAC-11193842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D2E-E5D3-4ED8-9E35-3FB5930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7A39-E3B2-4289-AE89-85443C0F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4DA-390F-4A09-866F-D725B8E8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A18-FD35-4160-AC69-58FA7D5A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62E-96F1-4007-A384-8308C14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E16-2433-405C-8DCC-ED2F826C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905-FE01-4DBD-8A5D-7E7A9F9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AAD-25D9-400A-B829-312C3BF8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5EE-F373-4480-B32D-FC6920D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B8F-89AF-4251-96EC-55026BC8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05D-8E23-4CC3-8489-24895ED0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11DA-9DC2-47F1-8235-49AB407B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692280"/>
            <a:ext cx="5329080" cy="46814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573408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"/>
              </a:rPr>
              <a:t>Калашникова Вера Фад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"/>
              </a:rPr>
              <a:t>учитель начальных классов МОУ «СОШ № 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"/>
              </a:rPr>
              <a:t>г. Оса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84360" y="981000"/>
            <a:ext cx="4535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Задачки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есёлого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вадра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0" y="5084640"/>
            <a:ext cx="3241800" cy="1224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3860640"/>
            <a:ext cx="3241800" cy="1224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2708280"/>
            <a:ext cx="3241440" cy="1224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1557360"/>
            <a:ext cx="3241800" cy="1224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404640"/>
            <a:ext cx="3241440" cy="12240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79640" y="620640"/>
            <a:ext cx="5329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   5   3   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   7   3   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   8   0   1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   4   6   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8   5   2   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 rot="20312400">
            <a:off x="133200" y="597960"/>
            <a:ext cx="2953080" cy="4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76720" y="2852640"/>
            <a:ext cx="367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300640"/>
            <a:ext cx="36720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852640"/>
            <a:ext cx="36720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33360"/>
            <a:ext cx="3672000" cy="11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4360" y="404640"/>
            <a:ext cx="31669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  3  н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628640"/>
            <a:ext cx="3672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4360" y="1773360"/>
            <a:ext cx="31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Р  1  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2997360"/>
            <a:ext cx="3166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  2  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076640"/>
            <a:ext cx="3672000" cy="10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4221000"/>
            <a:ext cx="331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ак  3  с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5516640"/>
            <a:ext cx="22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кис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59280" y="5734080"/>
            <a:ext cx="28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333360"/>
            <a:ext cx="367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35640" y="549360"/>
            <a:ext cx="303048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итр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1557360"/>
            <a:ext cx="367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35640" y="1773360"/>
            <a:ext cx="303048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од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64000" y="3068640"/>
            <a:ext cx="30308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в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6720" y="4076640"/>
            <a:ext cx="367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5300640"/>
            <a:ext cx="3672000" cy="1150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35640" y="4292640"/>
            <a:ext cx="30304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ктри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64000" y="5516640"/>
            <a:ext cx="3168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ист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333360"/>
            <a:ext cx="4176720" cy="934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19280" y="1484280"/>
            <a:ext cx="4176720" cy="934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2637000"/>
            <a:ext cx="4176720" cy="934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3789360"/>
            <a:ext cx="4176720" cy="934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5013360"/>
            <a:ext cx="4176720" cy="93492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–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535120" cy="3168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651640" y="260280"/>
            <a:ext cx="3166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0" r="52361" b="75347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755640" y="476280"/>
            <a:ext cx="544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627280" y="476280"/>
            <a:ext cx="544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640" y="2349360"/>
            <a:ext cx="936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411280" y="2349360"/>
            <a:ext cx="936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55640" y="422100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00360" y="4221000"/>
            <a:ext cx="5443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0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9280" y="620640"/>
            <a:ext cx="544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19280" y="4365720"/>
            <a:ext cx="5443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92360" y="2565360"/>
            <a:ext cx="5443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580000" y="476280"/>
            <a:ext cx="544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7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96360" y="476280"/>
            <a:ext cx="399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80000" y="234936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6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24720" y="234936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580000" y="422100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24720" y="422100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5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372360" y="620640"/>
            <a:ext cx="544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43640" y="4365720"/>
            <a:ext cx="5446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=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443640" y="2492280"/>
            <a:ext cx="544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l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5950080"/>
            <a:ext cx="3166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0" t="0" r="52361" b="75347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826920" y="234936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8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63640" y="2492280"/>
            <a:ext cx="544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43640" y="2492280"/>
            <a:ext cx="544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380360" y="476280"/>
            <a:ext cx="5443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651640" y="476280"/>
            <a:ext cx="399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51640" y="2349360"/>
            <a:ext cx="5443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451640" y="234936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71640" y="476280"/>
            <a:ext cx="544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9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43640" y="692280"/>
            <a:ext cx="5446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g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771640" y="2349360"/>
            <a:ext cx="5446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4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00000" y="47628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3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692360" y="620640"/>
            <a:ext cx="544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&lt;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5493" y="7493"/>
                </a:moveTo>
                <a:lnTo>
                  <a:pt x="9000" y="7493"/>
                </a:lnTo>
                <a:lnTo>
                  <a:pt x="9000" y="12828"/>
                </a:lnTo>
                <a:cubicBezTo>
                  <a:pt x="9000" y="13751"/>
                  <a:pt x="9801" y="14482"/>
                  <a:pt x="10837" y="14482"/>
                </a:cubicBezTo>
                <a:lnTo>
                  <a:pt x="12499" y="14482"/>
                </a:lnTo>
                <a:cubicBezTo>
                  <a:pt x="13535" y="14482"/>
                  <a:pt x="14336" y="13751"/>
                  <a:pt x="14336" y="12828"/>
                </a:cubicBezTo>
                <a:lnTo>
                  <a:pt x="14336" y="7493"/>
                </a:lnTo>
                <a:lnTo>
                  <a:pt x="12499" y="7493"/>
                </a:lnTo>
                <a:lnTo>
                  <a:pt x="16007" y="3985"/>
                </a:lnTo>
                <a:lnTo>
                  <a:pt x="19680" y="7493"/>
                </a:lnTo>
                <a:lnTo>
                  <a:pt x="17843" y="7493"/>
                </a:lnTo>
                <a:lnTo>
                  <a:pt x="17843" y="12828"/>
                </a:lnTo>
                <a:cubicBezTo>
                  <a:pt x="17843" y="15596"/>
                  <a:pt x="15267" y="18155"/>
                  <a:pt x="12499" y="18155"/>
                </a:cubicBezTo>
                <a:lnTo>
                  <a:pt x="10837" y="18155"/>
                </a:lnTo>
                <a:cubicBezTo>
                  <a:pt x="8069" y="18155"/>
                  <a:pt x="5493" y="15596"/>
                  <a:pt x="549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580000" y="5229360"/>
            <a:ext cx="3167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rcRect l="24154" t="24413" r="41880" b="32293"/>
          <a:stretch/>
        </p:blipFill>
        <p:spPr>
          <a:xfrm>
            <a:off x="611280" y="404640"/>
            <a:ext cx="3529080" cy="3373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rcRect l="41148" t="19728" r="28341" b="44092"/>
          <a:stretch/>
        </p:blipFill>
        <p:spPr>
          <a:xfrm>
            <a:off x="5148360" y="189000"/>
            <a:ext cx="3143160" cy="4968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rcRect l="21942" t="37200" r="39666" b="33273"/>
          <a:stretch/>
        </p:blipFill>
        <p:spPr>
          <a:xfrm>
            <a:off x="971640" y="3933720"/>
            <a:ext cx="5040360" cy="2908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666960" cy="417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755640" y="765000"/>
            <a:ext cx="46800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Свободны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микрофо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5640" y="907920"/>
            <a:ext cx="77040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чится всадник на коне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Задаёт вопросы мн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"Из каких фигур составле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человек на скакуне?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Мне ответить помогите,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Все фигуры назовит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184720" cy="4897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332000" y="907920"/>
            <a:ext cx="669744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latin typeface="Arial"/>
              </a:rPr>
              <a:t>КВАДРАТ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2920" y="836640"/>
            <a:ext cx="7274160" cy="6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Игра "Танграм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1197000"/>
            <a:ext cx="792000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адачки весёлог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вадрат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55912" t="18512" r="10141" b="43102"/>
          <a:stretch/>
        </p:blipFill>
        <p:spPr>
          <a:xfrm>
            <a:off x="324000" y="260280"/>
            <a:ext cx="3744720" cy="317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41148" t="22688" r="30319" b="42611"/>
          <a:stretch/>
        </p:blipFill>
        <p:spPr>
          <a:xfrm>
            <a:off x="5867280" y="189000"/>
            <a:ext cx="2843280" cy="460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rcRect l="21208" t="39174" r="45576" b="33273"/>
          <a:stretch/>
        </p:blipFill>
        <p:spPr>
          <a:xfrm>
            <a:off x="1979640" y="4005360"/>
            <a:ext cx="4103640" cy="2554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64000" y="549360"/>
            <a:ext cx="1874880" cy="215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77080" y="26028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20500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141300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835280" y="321300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611280" y="486900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f757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924360" y="3500280"/>
            <a:ext cx="1584360" cy="1584360"/>
          </a:xfrm>
          <a:prstGeom prst="smileyFace">
            <a:avLst>
              <a:gd name="adj" fmla="val -465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187280" y="260280"/>
            <a:ext cx="160524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4869000"/>
            <a:ext cx="86328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63640" y="3933720"/>
            <a:ext cx="863640" cy="79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116000" y="4581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4005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573360"/>
            <a:ext cx="8632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0036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14172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270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88000" y="2708280"/>
            <a:ext cx="863640" cy="79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84720" y="342900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335772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3645000"/>
            <a:ext cx="863640" cy="792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270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020000" y="2781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236000" y="28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916280"/>
            <a:ext cx="8636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08720" y="1412640"/>
            <a:ext cx="43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40720" y="620640"/>
            <a:ext cx="86364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907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7493"/>
                </a:moveTo>
                <a:lnTo>
                  <a:pt x="12016" y="7493"/>
                </a:lnTo>
                <a:lnTo>
                  <a:pt x="12016" y="12828"/>
                </a:lnTo>
                <a:cubicBezTo>
                  <a:pt x="12016" y="13751"/>
                  <a:pt x="12817" y="14482"/>
                  <a:pt x="13852" y="14482"/>
                </a:cubicBezTo>
                <a:lnTo>
                  <a:pt x="15515" y="14482"/>
                </a:lnTo>
                <a:cubicBezTo>
                  <a:pt x="16551" y="14482"/>
                  <a:pt x="17351" y="13751"/>
                  <a:pt x="17351" y="12828"/>
                </a:cubicBezTo>
                <a:lnTo>
                  <a:pt x="17351" y="7493"/>
                </a:lnTo>
                <a:lnTo>
                  <a:pt x="15515" y="7493"/>
                </a:lnTo>
                <a:lnTo>
                  <a:pt x="19022" y="3985"/>
                </a:lnTo>
                <a:lnTo>
                  <a:pt x="22695" y="7493"/>
                </a:lnTo>
                <a:lnTo>
                  <a:pt x="20859" y="7493"/>
                </a:lnTo>
                <a:lnTo>
                  <a:pt x="20859" y="12828"/>
                </a:lnTo>
                <a:cubicBezTo>
                  <a:pt x="20859" y="15596"/>
                  <a:pt x="18283" y="18155"/>
                  <a:pt x="15515" y="18155"/>
                </a:cubicBezTo>
                <a:lnTo>
                  <a:pt x="13852" y="18155"/>
                </a:lnTo>
                <a:cubicBezTo>
                  <a:pt x="11085" y="18155"/>
                  <a:pt x="8508" y="15596"/>
                  <a:pt x="8508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900000" y="333360"/>
            <a:ext cx="1920960" cy="2886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276720" y="333360"/>
            <a:ext cx="3166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57360"/>
            <a:ext cx="864072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916280"/>
            <a:ext cx="8136000" cy="26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Дерево узнают по плодам,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а человека - по делам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9640" y="333360"/>
            <a:ext cx="31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Провер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strips dir="l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6:48:55Z</dcterms:created>
  <dc:creator>Калашникова Вера Фадеевна</dc:creator>
  <dc:description/>
  <dc:language>en-US</dc:language>
  <cp:lastModifiedBy>Vlad</cp:lastModifiedBy>
  <dcterms:modified xsi:type="dcterms:W3CDTF">2010-04-28T19:34:40Z</dcterms:modified>
  <cp:revision>56</cp:revision>
  <dc:subject>Математика 1 класс</dc:subject>
  <dc:title>Задачки весёлого квадрата</dc:title>
</cp:coreProperties>
</file>